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20F-72E4-48D7-B23E-E19703CB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F53-0B81-423D-BD02-1EA87EB6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B02-53DB-4DC1-94FE-A34A3998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8F5-635D-4397-B951-B178DA8D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628-5C08-4311-A4E1-37FF2387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F48-85F2-4466-B806-99E7C806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338-BF06-40DF-8CF0-E6BEF8A5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6E3-30CA-4D8E-BF10-1EB82C25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63A-E88B-4BE6-9B04-D242C2DE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AF8-958B-4ACE-A7F8-76F898E9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0BA-5C9D-4E6E-A932-B64DB270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3AD-23C0-4411-9931-CC1F276B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74A6-2BBF-43E2-87DB-A5079279D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219640" y="5950080"/>
            <a:ext cx="341640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-73080" y="-171360"/>
            <a:ext cx="9217080" cy="752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STUDI DELS HÀBITS ALIMENTARIS DELS ADOLESCENTS DEL PLA DE L’EST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44720" y="59515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Times New Roman"/>
              </a:rPr>
              <a:t>Anna Oliv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ÍNDEX DE MASSA CORPORAL DELS NO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ÍNDEX DE MASSA CORPORAL DE LES NO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06436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ETA DELS NOIS I NOIES DE [12,18) AN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1155960" cy="1511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03280" y="1268280"/>
          <a:ext cx="7524720" cy="5400720"/>
        </p:xfrm>
        <a:graphic>
          <a:graphicData uri="http://schemas.openxmlformats.org/drawingml/2006/table">
            <a:tbl>
              <a:tblPr/>
              <a:tblGrid>
                <a:gridCol w="7524720"/>
              </a:tblGrid>
              <a:tr h="54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Àpat més important: 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n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oc on esmorzen: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 casa i a l’escola. Menys les noies de [16,18) anys que només ho fan a l’escola.</a:t>
                      </a: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morzar: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ereals i llet o derivats, de tant en tant beuen un su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nar: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rròs, pasta o patates; carn, peix o ous i per beure beuen aigua, els nois i noies de [16,18) anys beuen  un refresc de tant en ta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renar: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ereals, galetes o pa i beuen un suc. Els nois i noies de [16,18) anys mengen brioixeria ocasionalme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ar: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rn, peix o ous; arròs, pasta o patates com a complement i beuen aigu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n disposats a: 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mentar el consum de fruites i verdures, disminuir la brioixeria i la carn i els majors de setze anys també estan disposats a reduir l’alcoho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</a:t>
                      </a: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rcici físic: 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s nois i noies de 12 a 16 anys en fan entre tres i quatre cops a la setmana. Els nois de [16,18) entre 5 i 6 cops i les noies de [16,18) anys com a màxim dues vegades a la setman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113688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0920" y="3933720"/>
            <a:ext cx="96048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79280" y="5229360"/>
            <a:ext cx="12034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NS I MALS HÀBI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1989000"/>
          <a:ext cx="8229600" cy="4054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S HÀ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S HÀ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Gairebé tots fan els 5 àpa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oritzen el dinar com a àpat més importan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gen aliments que els aportin energia, vitamines i calc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mengen fregi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n espor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n disposats a millorar la seva. alimentació per a tenir una bona dieta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noies de [16,18) anys no esmorzen a cas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’hauria de menjar més fruita, verdura i hortaliss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s’han de menjar tants dolço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n de beure més líquids, preferiblement aigu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àcies a tots per la vostra aten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ÍND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os per a l’elaboració de l’estudi estadísti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Què és una bona diet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’índex de massa corpo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’enqu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txa tèc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Índex de massa corporal dels no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Índex de massa corporal de les no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eta dels nois i noies de [12,18) an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ons i mals hà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SSOS PER A L'ELABORACIÓ DE L’ESTUDI ESTADÍ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È ÉS UNA BONA DIETA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9968" t="6526" r="13706" b="0"/>
          <a:stretch/>
        </p:blipFill>
        <p:spPr>
          <a:xfrm>
            <a:off x="1332000" y="1268280"/>
            <a:ext cx="675792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’ÍNDEX DE MASSA COR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calcul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’interpret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360" y="1557360"/>
            <a:ext cx="302436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C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çad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2133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2360" y="3573360"/>
            <a:ext cx="4608720" cy="28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C inferior a 18,5 = baix p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C entre 18,5 i 25 =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C entre 25 i 30 = sobrep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C superior a 30 = obesitat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’ENQUE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’enquesta es pregun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dat, sexe, pes i alç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Què s’ha menjat en el marge de les últimes 24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s vegades que es fa esport setmanal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 què s’estaria disposat a fer per millorar la die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joria de les preguntes són tancades, amb diverses opcions a escol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TXA TÈC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 i noies de dotze a divuit anys dels instituts de secundària del Pla de l’Estany, en total 1761 alu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69780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Mostra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: 200 enquest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Tipus de mostra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estratificada per sexe, curs i centre esco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Repartició de la mostra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66 enquestats a l’INS Josep Brugulat, 66 enquestats a l’INS Pla de l’Estany, 57 enquestats a l’INS Pere Alsius i 11 enquestats a Casa Nost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Tècnica de recollida de la informació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entrevista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Participació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Error mostral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6,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Nivell de confiança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95,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Treball de camp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d’abril a juny del 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4:36:51Z</dcterms:created>
  <dc:creator>User</dc:creator>
  <dc:description/>
  <dc:language>en-US</dc:language>
  <cp:lastModifiedBy>User</cp:lastModifiedBy>
  <dcterms:modified xsi:type="dcterms:W3CDTF">2010-10-21T17:26:22Z</dcterms:modified>
  <cp:revision>6</cp:revision>
  <dc:subject/>
  <dc:title>ESTUDI DELS HÀBITS ALIMENTARIS DELS ADOLESCENTS DEL PLA DE L’ESTANY</dc:title>
</cp:coreProperties>
</file>